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107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980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99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96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99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72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980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980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99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96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99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72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9800" y="45882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9528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727280" indent="-21600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15892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15892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15892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144360" y="7159680"/>
            <a:ext cx="921708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c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66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33366"/>
                </a:solidFill>
                <a:latin typeface="Trebuchet MS"/>
              </a:rPr>
              <a:t>The 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71000" y="7153200"/>
            <a:ext cx="1208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F6A018E-E1F7-4D4C-8075-409029AEB439}" type="slidenum">
              <a:rPr b="0" lang="en-GB" sz="2000" spc="-1" strike="noStrike">
                <a:solidFill>
                  <a:srgbClr val="333366"/>
                </a:solidFill>
                <a:latin typeface="Trebuchet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9528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727280" indent="-21600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15892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15892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158920" indent="-215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"/>
          <p:cNvSpPr/>
          <p:nvPr/>
        </p:nvSpPr>
        <p:spPr>
          <a:xfrm>
            <a:off x="144360" y="7159680"/>
            <a:ext cx="921708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c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66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33366"/>
                </a:solidFill>
                <a:latin typeface="Trebuchet MS"/>
              </a:rPr>
              <a:t>The 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71000" y="7153200"/>
            <a:ext cx="1208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B0CD8BA-1532-4033-A6C0-70F89AC5EAFD}" type="slidenum">
              <a:rPr b="0" lang="en-GB" sz="2000" spc="-1" strike="noStrike">
                <a:solidFill>
                  <a:srgbClr val="333366"/>
                </a:solidFill>
                <a:latin typeface="Trebuchet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415800"/>
            <a:ext cx="9082080" cy="16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Comments on RDA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kae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Nil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600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i@nada.kth.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600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600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The Knowledge Management Research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600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oyal Institute of Technology, Stockho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600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600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http://kmr.nada.kth.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“</a:t>
            </a: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Resource”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's a resource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ok, person, publisher, Location, Event, etc, etc, et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st current formats clump many togeth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DC one-to-one princip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ne resource, one descrip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s 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ood data mod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“</a:t>
            </a: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Description”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Describ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assisting those who create metadata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Descrip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What do we think metadata is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Objective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Produced once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Contained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Just labeled text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index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“</a:t>
            </a: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access”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o's accessing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ibrarians, users,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oftwar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ho's RDA for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ibrarians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mplementers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tent producers? (Teachers, 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students, etc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0">
              <a:lnSpc>
                <a:spcPct val="97000"/>
              </a:lnSpc>
              <a:spcAft>
                <a:spcPts val="1239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rebuchet MS"/>
              </a:rPr>
              <a:t>One spec?</a:t>
            </a:r>
            <a:endParaRPr b="0" lang="en-US" sz="4400" spc="-1" strike="noStrike">
              <a:solidFill>
                <a:srgbClr val="0000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nolithic specs in this field doomed to failu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ake too long to produ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on't take into account important needs of domai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plication profiles a good ide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23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eds framework to be “specializable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ael Nilsson</dc:creator>
  <dc:description/>
  <dc:language>en-US</dc:language>
  <cp:lastModifiedBy>Administrator</cp:lastModifiedBy>
  <dcterms:modified xsi:type="dcterms:W3CDTF">2006-10-06T21:06:02Z</dcterms:modified>
  <cp:revision>1</cp:revision>
  <dc:subject/>
  <dc:title>Comments on RDA</dc:title>
</cp:coreProperties>
</file>